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358-5E56-4166-AAB6-04348CD4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00A-0975-40AC-9AE5-059AF1C5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039-CDD0-4B09-ADCA-E3B09627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A13-0765-4506-889F-DFF37151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CD5-FC10-410F-9B9A-3D445426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720-88E6-4B23-AFC0-2A7558E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8C1-FBFF-4B5C-ACCC-3F241402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528-83DD-4D66-9102-0731D607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BFF-0986-407D-A120-42178859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585-FF4D-480D-B737-F303FAF9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5B8-E572-4B56-95A9-AEEC632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C7B-C96A-4BAD-975F-98342F51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DB9-88AD-4D57-8DA1-96666687B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siraeva.rita@mail.ru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93680" y="692280"/>
            <a:ext cx="1007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pr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13a, page 10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rcRect l="23062" t="15625" r="28598" b="61841"/>
          <a:stretch/>
        </p:blipFill>
        <p:spPr>
          <a:xfrm>
            <a:off x="1093680" y="3435480"/>
            <a:ext cx="10307880" cy="2701800"/>
          </a:xfrm>
          <a:prstGeom prst="rect">
            <a:avLst/>
          </a:prstGeom>
          <a:ln w="0">
            <a:noFill/>
          </a:ln>
        </p:spPr>
      </p:pic>
      <p:pic>
        <p:nvPicPr>
          <p:cNvPr id="43" name="Звук 11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rcRect l="29060" t="24149" r="28784" b="5399"/>
          <a:stretch/>
        </p:blipFill>
        <p:spPr>
          <a:xfrm>
            <a:off x="0" y="0"/>
            <a:ext cx="7813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8072280" y="1344600"/>
            <a:ext cx="3940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уша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исываем выделенные красным слова в тетрадь с перевод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Ex1 p106" descr=""/>
          <p:cNvPicPr/>
          <p:nvPr/>
        </p:nvPicPr>
        <p:blipFill>
          <a:blip r:embed="rId2"/>
          <a:stretch/>
        </p:blipFill>
        <p:spPr>
          <a:xfrm>
            <a:off x="4572000" y="345960"/>
            <a:ext cx="996840" cy="99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"/>
          <p:cNvPicPr/>
          <p:nvPr/>
        </p:nvPicPr>
        <p:blipFill>
          <a:blip r:embed="rId3"/>
          <a:srcRect l="47496" t="39764" r="23908" b="52697"/>
          <a:stretch/>
        </p:blipFill>
        <p:spPr>
          <a:xfrm>
            <a:off x="6012000" y="109440"/>
            <a:ext cx="6000480" cy="889200"/>
          </a:xfrm>
          <a:prstGeom prst="rect">
            <a:avLst/>
          </a:prstGeom>
          <a:ln w="0">
            <a:noFill/>
          </a:ln>
        </p:spPr>
      </p:pic>
      <p:pic>
        <p:nvPicPr>
          <p:cNvPr id="48" name="Звук 12" descr=""/>
          <p:cNvPicPr/>
          <p:nvPr/>
        </p:nvPicPr>
        <p:blipFill>
          <a:blip r:embed="rId4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506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"/>
          <p:cNvPicPr/>
          <p:nvPr/>
        </p:nvPicPr>
        <p:blipFill>
          <a:blip r:embed="rId1"/>
          <a:srcRect l="28847" t="5399" r="29013" b="8617"/>
          <a:stretch/>
        </p:blipFill>
        <p:spPr>
          <a:xfrm>
            <a:off x="3408480" y="166680"/>
            <a:ext cx="5805360" cy="6705720"/>
          </a:xfrm>
          <a:prstGeom prst="rect">
            <a:avLst/>
          </a:prstGeom>
          <a:ln w="0">
            <a:noFill/>
          </a:ln>
        </p:spPr>
      </p:pic>
      <p:pic>
        <p:nvPicPr>
          <p:cNvPr id="50" name="Ex2 p107" descr=""/>
          <p:cNvPicPr/>
          <p:nvPr/>
        </p:nvPicPr>
        <p:blipFill>
          <a:blip r:embed="rId2"/>
          <a:stretch/>
        </p:blipFill>
        <p:spPr>
          <a:xfrm>
            <a:off x="2133720" y="3110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Звук 9" descr=""/>
          <p:cNvPicPr/>
          <p:nvPr/>
        </p:nvPicPr>
        <p:blipFill>
          <a:blip r:embed="rId3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183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149480" y="1260360"/>
            <a:ext cx="9975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ome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.1, p.106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но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.2, p.107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диалог не менее 5 раз и записать себя. Аудиозапись выслать на почту </a:t>
            </a:r>
            <a:r>
              <a:rPr b="0" lang="en-US" sz="44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siraeva.rita@mail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bye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Звук 5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7:01:43Z</dcterms:created>
  <dc:creator>Маргарита</dc:creator>
  <dc:description/>
  <dc:language>en-US</dc:language>
  <cp:lastModifiedBy>Татьяна</cp:lastModifiedBy>
  <dcterms:modified xsi:type="dcterms:W3CDTF">2020-04-05T11:01:56Z</dcterms:modified>
  <cp:revision>8</cp:revision>
  <dc:subject/>
  <dc:title>Презентация PowerPoint</dc:title>
</cp:coreProperties>
</file>